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C212-F631-472D-9D32-BC97632FC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3DBF-1987-4A07-89F1-4ADCB7D9E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309D-140E-4B1A-8371-F51B0C1CD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F805-1B3F-45B9-87A2-B00EE8622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4011-F56F-42D9-9D66-F8EA84206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64A9-1789-489E-906E-BFB0D38E0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6E90-1AC1-4079-9B24-5A41C5883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942E-D290-4914-8FF8-0F8C899BE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CE3A-ACCB-496B-A4A3-4BF2B08C8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F6DB-C2D9-4D65-9950-9E930B159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BD1C-3736-4D4B-AF54-9E4D6CDF8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EDDF-AC78-4C25-9F48-41BA365FF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72521F9-4599-4743-A2E3-B59911677D35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Démarrage des échange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4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516 établissements ont démarré les tests avec les caisse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44 établissements ont fini les test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17 établissements ont fait le PV de phase 3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1 établissements ont fini la phase 4 et donc démarré en ré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CEB7-549C-47DD-8242-7A22EE3106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7280" y="1224000"/>
            <a:ext cx="9793440" cy="1123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lanning de bascule retour SMTP des retours NOEM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01880" y="1965240"/>
          <a:ext cx="7991280" cy="4488120"/>
        </p:xfrm>
        <a:graphic>
          <a:graphicData uri="http://schemas.openxmlformats.org/drawingml/2006/table">
            <a:tbl>
              <a:tblPr/>
              <a:tblGrid>
                <a:gridCol w="1649160"/>
                <a:gridCol w="3703680"/>
                <a:gridCol w="263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ouloirs (CNAM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uméros des départements concer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Date de basc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1-07-26-42-69-74-38-03-63-43-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8/05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ES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7-91-93-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R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5-78-92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-12-31-32-46-65-81-82-24-33-40-47-64-11-30-34-48-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Guadeloupe-Martinique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éunion-Mayotte-Guy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AC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A-2B-04 05-06-13-83-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6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P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2-29-35-56-44 49-53-72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3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3362-6431-44FD-9796-8EA99A7DD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lus de 37 millions de factures reçue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55 établissements émet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’ensemble des CTI a reçu des flux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Action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oursuivre envoi des stocks 2005, 2006, 2007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Envoi des flux 2008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74D4-3308-4CE2-9308-465C5E5E26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16680" y="1482840"/>
          <a:ext cx="4460760" cy="4953960"/>
        </p:xfrm>
        <a:graphic>
          <a:graphicData uri="http://schemas.openxmlformats.org/drawingml/2006/table">
            <a:tbl>
              <a:tblPr/>
              <a:tblGrid>
                <a:gridCol w="4460760"/>
              </a:tblGrid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SPECIALITE EXEC. /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ATIBILITE ASU-NAT / REG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CONNUE BDO NON TRANS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DENTIFICATION PRESTATION OBLIG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ABSENT DE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NON TROUVEE EN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NATURE DE PRESTATION ERRON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NON GERE PAR LA CAI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BENEFICIAIRE INCONNU DANS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NAT. PREST. SPE.EXECU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3280" y="1512720"/>
          <a:ext cx="4459320" cy="2646360"/>
        </p:xfrm>
        <a:graphic>
          <a:graphicData uri="http://schemas.openxmlformats.org/drawingml/2006/table">
            <a:tbl>
              <a:tblPr/>
              <a:tblGrid>
                <a:gridCol w="4459320"/>
              </a:tblGrid>
              <a:tr h="265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Les principaux motifs de rejets dans l’ordre décroissan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chantillon 309 établissement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11 millions de factu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EDD9-D70E-4B25-AD39-EC7C29A98C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9:09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